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3B55E-BD32-48F7-BCF4-FED24D508F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CAFA9-B6C1-484C-8E3A-BB723C7A1D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6C173-B0B4-4CE8-9AFB-BCF90D739B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95DC5-B5BD-44C5-BAAD-E379FA40D6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97482-B28B-4AD1-9FD2-B51DD09804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0D532-A7AC-4255-90F9-A7BB4DA5CD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7900C-1094-48B5-B8B8-25E57420ED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B76D8-FF9D-4053-9D05-AC065A392E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4DAB7-83DC-49E7-8FD8-4DCC5427E7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622BB-BA06-400A-8194-F3CB9F357F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683DF-F76E-4886-A2B2-B7823E5F26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990DC-086C-444D-AEB5-74C83AC4C1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8E35A-8436-4AA8-A7C8-C1B503C7286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45C76-DF3C-4183-9D01-92F892DF555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1218960"/>
            <a:ext cx="807732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28600" y="2590920"/>
            <a:ext cx="8686800" cy="3504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2478"/>
                </a:solidFill>
                <a:latin typeface="Arial Rounded MT Bold"/>
                <a:ea typeface="Tahoma"/>
              </a:rPr>
              <a:t>BREAKOUT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42478"/>
                </a:solidFill>
                <a:latin typeface="Arial Rounded MT Bold"/>
                <a:ea typeface="Tahoma"/>
              </a:rPr>
              <a:t>PROPORTIONAL REAS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Arial Rounded MT Bold"/>
                <a:ea typeface="Tahoma"/>
              </a:rPr>
              <a:t>LEARNING GOALS, CONSOLIDATING QUESTIONS AND GOOD ANS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Arial Rounded MT Bold"/>
                <a:ea typeface="Tahoma"/>
              </a:rPr>
              <a:t>What’s the Conne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7030a0"/>
                </a:solidFill>
                <a:uFillTx/>
                <a:latin typeface="Arial"/>
              </a:rPr>
              <a:t>Learning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8377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We</a:t>
            </a:r>
            <a:r>
              <a:rPr b="0" lang="en-CA" sz="32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will use Learning Goals to interpret important mathematics and target the mathematical thinking we want to expose and evoke with stud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We will recognize the link between Learning Goals, Curriculum Expectations, Consolidation Questions, and Big Ideas and the reason for attending to these prior to a lesson acti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We will know the purpose of considering what a good answer would look lik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2C1DB-F161-495F-9F57-EA92BBFDB2C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FD1D2-2022-4748-8F35-5AE6A4D9473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6000"/>
                            </p:stCondLst>
                            <p:childTnLst>
                              <p:par>
                                <p:cTn id="14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2d050"/>
                </a:solidFill>
                <a:latin typeface="Arial Rounded MT Bold"/>
              </a:rPr>
              <a:t>Minds On</a:t>
            </a:r>
            <a:endParaRPr b="0" lang="en-US" sz="6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Discuss and decide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ith a partner at your table what the goal of each action might 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9A875-8530-40BB-A308-1D112916DA1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4"/>
          <p:cNvSpPr/>
          <p:nvPr/>
        </p:nvSpPr>
        <p:spPr>
          <a:xfrm>
            <a:off x="762120" y="2286000"/>
            <a:ext cx="792468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Husband buys his wife a dozen ro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You buy a turtle from the pet s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You apply to law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 new graduate enrols in Spanish les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n employee asks for and accepts extra hours of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Your son cleans your car without being as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2b5ca9"/>
                </a:solidFill>
                <a:latin typeface="Arial Rounded MT Bold"/>
              </a:rPr>
              <a:t>Conclusion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914400" y="1980720"/>
            <a:ext cx="7315200" cy="2590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 Rounded MT Bold"/>
              </a:rPr>
              <a:t>For every action we take we have a goal in mi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3E608-7BBF-438B-9607-9005855608C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 Rounded MT Bold"/>
              </a:rPr>
              <a:t>Action</a:t>
            </a:r>
            <a:endParaRPr b="0" lang="en-US" sz="6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0663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540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lf-select a group of 3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ke 40 minutes to complete 2 of the 3 activities on your ta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BLM 2.1  Which is Bes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BLM 2.2. The Learning Goal-Consolid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BLM 2.3  Improving Learning Go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540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C7215-6D66-4820-A18D-486DD9E6EAC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Arial Rounded MT Bold"/>
              </a:rPr>
              <a:t>Consolida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6840" y="7617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Whole Group</a:t>
            </a:r>
            <a:r>
              <a:rPr b="1" lang="en-CA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 Sharing - activity decisions,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       thoughts,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2060"/>
                </a:solidFill>
                <a:latin typeface="Arial"/>
              </a:rPr>
              <a:t>Questions to Cons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2060"/>
                </a:solidFill>
                <a:latin typeface="Arial"/>
              </a:rPr>
              <a:t>What was challenging about these tasks?  What did you find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2060"/>
                </a:solidFill>
                <a:latin typeface="Arial"/>
              </a:rPr>
              <a:t>What is the difference between a learning goal and a curriculum expectation?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2060"/>
                </a:solidFill>
                <a:latin typeface="Arial"/>
              </a:rPr>
              <a:t>When/why might you choose not to reveal the LG at the beginning of the less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2060"/>
                </a:solidFill>
                <a:latin typeface="Arial"/>
              </a:rPr>
              <a:t>Why is it important for us to consider what a good answer will look lik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9F1EE-3A65-45F3-ABCF-74F06B3E5B7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400" spc="-1" strike="noStrike">
                <a:solidFill>
                  <a:srgbClr val="7030a0"/>
                </a:solidFill>
                <a:latin typeface="Arial"/>
              </a:rPr>
              <a:t>Reflection</a:t>
            </a:r>
            <a:r>
              <a:rPr b="1" lang="en-CA" sz="4400" spc="-1" strike="noStrike">
                <a:solidFill>
                  <a:srgbClr val="2b5ca9"/>
                </a:solidFill>
                <a:latin typeface="Arial"/>
              </a:rPr>
              <a:t>  </a:t>
            </a:r>
            <a:r>
              <a:rPr b="0" i="1" lang="en-CA" sz="3000" spc="-1" strike="noStrike">
                <a:solidFill>
                  <a:srgbClr val="7030a0"/>
                </a:solidFill>
                <a:latin typeface="Arial"/>
              </a:rPr>
              <a:t>Take a few moments to . . .</a:t>
            </a:r>
            <a:endParaRPr b="0" lang="en-US" sz="3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990360"/>
            <a:ext cx="8077320" cy="2438280"/>
          </a:xfrm>
          <a:prstGeom prst="rect">
            <a:avLst/>
          </a:prstGeom>
          <a:noFill/>
          <a:ln w="12600">
            <a:solidFill>
              <a:srgbClr val="002060"/>
            </a:solidFill>
            <a:miter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Individual </a:t>
            </a:r>
            <a:r>
              <a:rPr b="1" lang="en-CA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Journal Ent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How are you providing Learning Goals for your student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Why is it useful to consider the Consolidating Question(s), to be used at the end of a lesson, once you have determined the Learning G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0322D-7023-40F3-99EF-0184ACDD1AC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6019920" y="1066680"/>
            <a:ext cx="922320" cy="38124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914400" y="3733920"/>
            <a:ext cx="739152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andana  - record a new strategy or idea I learn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bout this break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ost-its:  Post a question or a comment about L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nd CQ’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cp:keywords/>
  <dc:language>en-US</dc:language>
  <cp:lastModifiedBy>Image Builder</cp:lastModifiedBy>
  <dcterms:modified xsi:type="dcterms:W3CDTF">2011-08-07T19:42:42Z</dcterms:modified>
  <cp:revision>67</cp:revision>
  <dc:subject/>
  <dc:title>&lt;Title&gt;</dc:title>
</cp:coreProperties>
</file>